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4.png" ContentType="image/png"/>
  <Override PartName="/ppt/media/image12.jpeg" ContentType="image/jpeg"/>
  <Override PartName="/ppt/media/image6.png" ContentType="image/png"/>
  <Override PartName="/ppt/media/image14.wmf" ContentType="image/x-wmf"/>
  <Override PartName="/ppt/media/image2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png" ContentType="image/png"/>
  <Override PartName="/ppt/media/image16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5145088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6D6C-0019-4293-A1BC-DB5E226A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3F26-D034-468F-A0D1-05A4534B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CE6-9CD1-4B04-B38C-8F2453F2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6317-FE22-4BD1-9A1B-FEB1FAFC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A3D3-A71A-4078-996B-2065D5B4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9EC6-18FE-4542-A92B-22255AF9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4092-1420-44A2-8216-340765C5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FEFB-8421-433C-8FE6-AD0A2962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3296-BCB3-44E1-AAF9-ABDD27A2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1F32-424A-41B3-8CA4-65E294C3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05D3-A296-44BD-8E38-E43B9DEE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2C6A-E2E1-4265-A793-943FBECA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AE4A-697D-4151-BEAA-DA2D930A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A95D-AC0B-45B6-9548-E10842CC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3758-3D58-4376-A730-13E726B5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059C-9D8A-497B-937C-98A040E6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3EB1-FB4F-4089-909E-61C949F7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B6CD2-2267-4610-9262-BEAD8012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FC2C8-5358-4965-B000-A48DB253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989A9-9D46-42FE-A147-DDCC47CD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FCBF4-5CAA-4256-8C20-1FBAA954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D7F85-D08B-4494-99C1-B4CF90F9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0313-ACD7-4204-A705-F8CAE408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04299-9646-4A0E-BE59-B3379294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6146C-34B4-450F-8B14-12E151D8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0F49F-A24F-4015-9354-AD35C977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0B268-A13B-4BEC-B030-D79673CB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EB6CF-5246-4BB1-85E4-7E53ACB4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7F28E-0BAB-433E-A2B2-7BBC61B3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D3FC6-1350-4B5A-9BCA-BF2CC20C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B674D-3514-42C7-92B3-64F7C984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49816-39A0-459F-8B06-61AA1FF8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1B9C0-820F-4355-86F3-0A59DEE0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0688-87F1-4878-B877-B937FE49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9A116-BDC6-43E9-BF4D-FDA0B3DE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7EB83-00CD-4E7B-9E62-C3587DE6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8A1F3-0EF2-48AB-953E-89BE23B2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73567-6F35-48E1-A028-D77C35AF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55529-2438-4CE3-B020-A7E16B64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01593-CB07-4D63-B46C-C0AAE9FA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DE604-6EF9-41D6-B4BA-D347FCE0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D8D38-7A9A-4E6D-888F-82206207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012A2-52F1-4C7B-A474-066A8FC2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C356-E235-4429-8E4E-95753DEC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EA68-31CB-45E1-A261-EE6A5E30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BF6F-99CD-485D-89C7-503AE85F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F1E0-5A6E-4AFC-BDB4-A59522AF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6999-6C89-4E76-A1AA-3BE0FE11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BF74-0724-466F-8E2D-79BB6D0417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E21A-F063-4101-B7F1-4C3340C447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B10F-ED59-4954-A8B2-0F5D39C5AF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7035-C11A-4DF3-8C86-989FF87AFF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16.png"/><Relationship Id="rId5" Type="http://schemas.openxmlformats.org/officeDocument/2006/relationships/hyperlink" Target="mailto:cpprkrostok@mail.ru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3" descr=""/>
          <p:cNvPicPr/>
          <p:nvPr/>
        </p:nvPicPr>
        <p:blipFill>
          <a:blip r:embed="rId1"/>
          <a:stretch/>
        </p:blipFill>
        <p:spPr>
          <a:xfrm>
            <a:off x="-19080" y="79200"/>
            <a:ext cx="9175680" cy="5169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0" y="46080"/>
            <a:ext cx="9175680" cy="523728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2"/>
          <p:cNvSpPr/>
          <p:nvPr/>
        </p:nvSpPr>
        <p:spPr>
          <a:xfrm>
            <a:off x="826920" y="170820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 мерах, направленных на  профилактику суицидального поведения  несовершеннолетн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356000" y="3579840"/>
            <a:ext cx="468000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File:Coat of Arms of Tatarstan.svg"/>
          <p:cNvPicPr/>
          <p:nvPr/>
        </p:nvPicPr>
        <p:blipFill>
          <a:blip r:embed="rId3"/>
          <a:stretch/>
        </p:blipFill>
        <p:spPr>
          <a:xfrm>
            <a:off x="3960720" y="127080"/>
            <a:ext cx="1222560" cy="1220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71280" y="206280"/>
            <a:ext cx="7715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Tahoma"/>
              </a:rPr>
              <a:t>Фразы родителей, которые провоцируют запуск программы самоуничто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331640" y="1419120"/>
            <a:ext cx="6948360" cy="31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ahoma"/>
              </a:rPr>
              <a:t>Я сейчас занят(а), отстань от меня…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ahoma"/>
              </a:rPr>
              <a:t>- Посмотри, что ты натворил, ты - придурок?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ahoma"/>
              </a:rPr>
              <a:t>- Неправильно! Ну когда же ты научишься?!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ahoma"/>
              </a:rPr>
              <a:t>- Сколько раз тебе говорить, совсем идиот?!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ahoma"/>
              </a:rPr>
              <a:t>- Ты сведешь меня с ума!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ahoma"/>
              </a:rPr>
              <a:t>- Вечно ты во все лезешь!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ahoma"/>
              </a:rPr>
              <a:t>- Уйди от меня! Встань в угол!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ahoma"/>
              </a:rPr>
              <a:t>- Прибью тебя! (на языке и в понятии ребенка это звучит как «Убью» и никак иначе!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116000" cy="514368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с двумя вырезанными противолежащими углами 4"/>
          <p:cNvSpPr/>
          <p:nvPr/>
        </p:nvSpPr>
        <p:spPr>
          <a:xfrm>
            <a:off x="557280" y="4803840"/>
            <a:ext cx="837072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Рисунок 3" descr=""/>
          <p:cNvPicPr/>
          <p:nvPr/>
        </p:nvPicPr>
        <p:blipFill>
          <a:blip r:embed="rId1"/>
          <a:stretch/>
        </p:blipFill>
        <p:spPr>
          <a:xfrm>
            <a:off x="42840" y="23760"/>
            <a:ext cx="9174240" cy="51768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" descr=""/>
          <p:cNvPicPr/>
          <p:nvPr/>
        </p:nvPicPr>
        <p:blipFill>
          <a:blip r:embed="rId2"/>
          <a:stretch/>
        </p:blipFill>
        <p:spPr>
          <a:xfrm>
            <a:off x="0" y="-15840"/>
            <a:ext cx="1403280" cy="5143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C:\Users\Afanaseva\Desktop\сам.png"/>
          <p:cNvPicPr/>
          <p:nvPr/>
        </p:nvPicPr>
        <p:blipFill>
          <a:blip r:embed="rId3"/>
          <a:stretch/>
        </p:blipFill>
        <p:spPr>
          <a:xfrm>
            <a:off x="971640" y="104760"/>
            <a:ext cx="658800" cy="64440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с двумя вырезанными противолежащими углами 1"/>
          <p:cNvSpPr/>
          <p:nvPr/>
        </p:nvSpPr>
        <p:spPr>
          <a:xfrm>
            <a:off x="701640" y="4803840"/>
            <a:ext cx="837108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Заголовок 1" descr=""/>
          <p:cNvPicPr/>
          <p:nvPr/>
        </p:nvPicPr>
        <p:blipFill>
          <a:blip r:embed="rId4"/>
          <a:stretch/>
        </p:blipFill>
        <p:spPr>
          <a:xfrm>
            <a:off x="1347840" y="-79200"/>
            <a:ext cx="6753240" cy="1603080"/>
          </a:xfrm>
          <a:prstGeom prst="rect">
            <a:avLst/>
          </a:prstGeom>
          <a:ln w="0">
            <a:noFill/>
          </a:ln>
        </p:spPr>
      </p:pic>
      <p:sp>
        <p:nvSpPr>
          <p:cNvPr id="218" name="Объект 2"/>
          <p:cNvSpPr/>
          <p:nvPr/>
        </p:nvSpPr>
        <p:spPr>
          <a:xfrm>
            <a:off x="882720" y="1276200"/>
            <a:ext cx="7993080" cy="33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казание психолого-педагогической реабилитационной помощи детям и их родителям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оследствия родовых трав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азвод родителе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сихосоматические заболевания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насилие и жестокое обращение с детьми в семье и за её  пределам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рофилактика неравновесных психических состояний диссинхрония развития и др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ыявление уровня интеллектуального развития детей и определения дальнейшего образовательного маршрут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казание методической, психологической помощи и поддержки педагогам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  <a:ea typeface="Times New Roman"/>
              </a:rPr>
              <a:t>Тел. 8(843) 563 35 1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cpprkrostok@mail.ru</a:t>
            </a:r>
            <a:r>
              <a:rPr b="1" lang="en-US" sz="15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Рисунок 7" descr="auto0"/>
          <p:cNvPicPr/>
          <p:nvPr/>
        </p:nvPicPr>
        <p:blipFill>
          <a:blip r:embed="rId6"/>
          <a:srcRect l="1555" t="1163" r="68610" b="74184"/>
          <a:stretch/>
        </p:blipFill>
        <p:spPr>
          <a:xfrm>
            <a:off x="8244000" y="25560"/>
            <a:ext cx="885600" cy="95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3" descr=""/>
          <p:cNvPicPr/>
          <p:nvPr/>
        </p:nvPicPr>
        <p:blipFill>
          <a:blip r:embed="rId1"/>
          <a:stretch/>
        </p:blipFill>
        <p:spPr>
          <a:xfrm>
            <a:off x="42840" y="23760"/>
            <a:ext cx="9174240" cy="51768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5143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C:\Users\Afanaseva\Desktop\сам.png"/>
          <p:cNvPicPr/>
          <p:nvPr/>
        </p:nvPicPr>
        <p:blipFill>
          <a:blip r:embed="rId3"/>
          <a:stretch/>
        </p:blipFill>
        <p:spPr>
          <a:xfrm>
            <a:off x="971640" y="104760"/>
            <a:ext cx="658800" cy="64440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с двумя вырезанными противолежащими углами 1"/>
          <p:cNvSpPr/>
          <p:nvPr/>
        </p:nvSpPr>
        <p:spPr>
          <a:xfrm>
            <a:off x="701640" y="4803840"/>
            <a:ext cx="837108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Заголовок 1" descr=""/>
          <p:cNvPicPr/>
          <p:nvPr/>
        </p:nvPicPr>
        <p:blipFill>
          <a:blip r:embed="rId4"/>
          <a:stretch/>
        </p:blipFill>
        <p:spPr>
          <a:xfrm>
            <a:off x="1352520" y="30240"/>
            <a:ext cx="7851960" cy="890640"/>
          </a:xfrm>
          <a:prstGeom prst="rect">
            <a:avLst/>
          </a:prstGeom>
          <a:ln w="0">
            <a:noFill/>
          </a:ln>
        </p:spPr>
      </p:pic>
      <p:sp>
        <p:nvSpPr>
          <p:cNvPr id="225" name="Объект 2"/>
          <p:cNvSpPr/>
          <p:nvPr/>
        </p:nvSpPr>
        <p:spPr>
          <a:xfrm>
            <a:off x="890640" y="907920"/>
            <a:ext cx="799308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еспубликанский Центр психолого-педагогической реабилитации и коррекции «Росток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Центр диагностики и консультирования «Шанс» Елабужского муниципального район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Центр диагностики и консультирования Нижнекамского муниципального район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Центр психолого-медико-социального сопровождения №85  г. Набережные Челны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Центр психолого-педагогической реабилитации и коррекции Мензелинского муниципального район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Центр лечебной педагогики и дифференцированного образования г. Казан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71640" y="123480"/>
            <a:ext cx="817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Tahoma"/>
              </a:rPr>
              <a:t>Зоны ответственности ППМС-цент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517760" y="987480"/>
            <a:ext cx="6808680" cy="37656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4" descr=""/>
          <p:cNvPicPr/>
          <p:nvPr/>
        </p:nvPicPr>
        <p:blipFill>
          <a:blip r:embed="rId2"/>
          <a:stretch/>
        </p:blipFill>
        <p:spPr>
          <a:xfrm>
            <a:off x="-6480" y="0"/>
            <a:ext cx="1116000" cy="514368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с двумя вырезанными противолежащими углами 5"/>
          <p:cNvSpPr/>
          <p:nvPr/>
        </p:nvSpPr>
        <p:spPr>
          <a:xfrm>
            <a:off x="557280" y="4803840"/>
            <a:ext cx="837072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Скругленный прямоугольник 3"/>
          <p:cNvGrpSpPr/>
          <p:nvPr/>
        </p:nvGrpSpPr>
        <p:grpSpPr>
          <a:xfrm>
            <a:off x="1420920" y="1243080"/>
            <a:ext cx="2560680" cy="3657600"/>
            <a:chOff x="1420920" y="1243080"/>
            <a:chExt cx="2560680" cy="3657600"/>
          </a:xfrm>
        </p:grpSpPr>
        <p:pic>
          <p:nvPicPr>
            <p:cNvPr id="231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420920" y="1243080"/>
              <a:ext cx="25606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595520" y="1395360"/>
              <a:ext cx="2208240" cy="33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Скругленный прямоугольник 4"/>
          <p:cNvGrpSpPr/>
          <p:nvPr/>
        </p:nvGrpSpPr>
        <p:grpSpPr>
          <a:xfrm>
            <a:off x="4230720" y="1243080"/>
            <a:ext cx="2554200" cy="3657600"/>
            <a:chOff x="4230720" y="1243080"/>
            <a:chExt cx="2554200" cy="3657600"/>
          </a:xfrm>
        </p:grpSpPr>
        <p:pic>
          <p:nvPicPr>
            <p:cNvPr id="234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4230720" y="1243080"/>
              <a:ext cx="25542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403880" y="1395360"/>
              <a:ext cx="2207880" cy="33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Скругленный прямоугольник 5"/>
          <p:cNvGrpSpPr/>
          <p:nvPr/>
        </p:nvGrpSpPr>
        <p:grpSpPr>
          <a:xfrm>
            <a:off x="6894360" y="1243080"/>
            <a:ext cx="2090880" cy="3639960"/>
            <a:chOff x="6894360" y="1243080"/>
            <a:chExt cx="2090880" cy="3639960"/>
          </a:xfrm>
        </p:grpSpPr>
        <p:pic>
          <p:nvPicPr>
            <p:cNvPr id="237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6894360" y="1243080"/>
              <a:ext cx="2090880" cy="36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7045200" y="1371600"/>
              <a:ext cx="1785960" cy="333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239" name=""/>
          <p:cNvGraphicFramePr/>
          <p:nvPr/>
        </p:nvGraphicFramePr>
        <p:xfrm>
          <a:off x="1805040" y="1347840"/>
          <a:ext cx="1789200" cy="3635280"/>
        </p:xfrm>
        <a:graphic>
          <a:graphicData uri="http://schemas.openxmlformats.org/drawingml/2006/table">
            <a:tbl>
              <a:tblPr/>
              <a:tblGrid>
                <a:gridCol w="1789200"/>
              </a:tblGrid>
              <a:tr h="33156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огор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752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лабуж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тюш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урлат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56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ин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лтасин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пастов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накаев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068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грыз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бин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делеев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540320" y="1414440"/>
          <a:ext cx="1935000" cy="3165480"/>
        </p:xfrm>
        <a:graphic>
          <a:graphicData uri="http://schemas.openxmlformats.org/drawingml/2006/table">
            <a:tbl>
              <a:tblPr/>
              <a:tblGrid>
                <a:gridCol w="1935000"/>
              </a:tblGrid>
              <a:tr h="33192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аныш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56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ькеев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572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йбиц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рманов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тазин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628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хнеуслон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ин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одоль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жнекам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7054920" y="2075040"/>
          <a:ext cx="1766880" cy="993600"/>
        </p:xfrm>
        <a:graphic>
          <a:graphicData uri="http://schemas.openxmlformats.org/drawingml/2006/table">
            <a:tbl>
              <a:tblPr/>
              <a:tblGrid>
                <a:gridCol w="1766880"/>
              </a:tblGrid>
              <a:tr h="33156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ишев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ниногор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TextBox 9"/>
          <p:cNvSpPr/>
          <p:nvPr/>
        </p:nvSpPr>
        <p:spPr>
          <a:xfrm>
            <a:off x="1086120" y="214200"/>
            <a:ext cx="74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РЕЗУЛЬТАТЫ МОНИТОРИНГА ДЕЯТЕ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ПСИХОЛОГИЧЕСКИХ СЛУЖБ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2016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с двумя вырезанными противолежащими углами 11"/>
          <p:cNvSpPr/>
          <p:nvPr/>
        </p:nvSpPr>
        <p:spPr>
          <a:xfrm>
            <a:off x="557280" y="4803840"/>
            <a:ext cx="837072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Рисунок 12" descr=""/>
          <p:cNvPicPr/>
          <p:nvPr/>
        </p:nvPicPr>
        <p:blipFill>
          <a:blip r:embed="rId4"/>
          <a:stretch/>
        </p:blipFill>
        <p:spPr>
          <a:xfrm>
            <a:off x="-6480" y="0"/>
            <a:ext cx="1116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Динамика эффективности функционирования службы за 2016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Овал 4"/>
          <p:cNvSpPr/>
          <p:nvPr/>
        </p:nvSpPr>
        <p:spPr>
          <a:xfrm>
            <a:off x="3432240" y="1438200"/>
            <a:ext cx="2579760" cy="3240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Балтасинск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Высокогор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Нурлат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Тетюшск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Апастов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Азнакаев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Елабужск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A3EB-35D5-43F3-A17B-3C7C47AE7E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Выноска со стрелкой вправо 8"/>
          <p:cNvSpPr/>
          <p:nvPr/>
        </p:nvSpPr>
        <p:spPr>
          <a:xfrm>
            <a:off x="900000" y="1754280"/>
            <a:ext cx="2880000" cy="1357200"/>
          </a:xfrm>
          <a:prstGeom prst="rightArrowCallout">
            <a:avLst>
              <a:gd name="adj1" fmla="val 25002"/>
              <a:gd name="adj2" fmla="val 25000"/>
              <a:gd name="adj3" fmla="val 25002"/>
              <a:gd name="adj4" fmla="val 6497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ин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бин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делеев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Стрелка вправо 11"/>
          <p:cNvSpPr/>
          <p:nvPr/>
        </p:nvSpPr>
        <p:spPr>
          <a:xfrm>
            <a:off x="5805360" y="2538360"/>
            <a:ext cx="1212840" cy="8636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12"/>
          <p:cNvSpPr/>
          <p:nvPr/>
        </p:nvSpPr>
        <p:spPr>
          <a:xfrm>
            <a:off x="7008840" y="2287440"/>
            <a:ext cx="1871640" cy="14320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рмановск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йбиц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Выноска со стрелкой вправо 13"/>
          <p:cNvSpPr/>
          <p:nvPr/>
        </p:nvSpPr>
        <p:spPr>
          <a:xfrm>
            <a:off x="900000" y="3152880"/>
            <a:ext cx="2880000" cy="1357200"/>
          </a:xfrm>
          <a:prstGeom prst="rightArrowCallout">
            <a:avLst>
              <a:gd name="adj1" fmla="val 25002"/>
              <a:gd name="adj2" fmla="val 25000"/>
              <a:gd name="adj3" fmla="val 25002"/>
              <a:gd name="adj4" fmla="val 64977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рыз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3149640" y="104472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ЕЛЕНАЯ З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с двумя вырезанными противолежащими углами 10"/>
          <p:cNvSpPr/>
          <p:nvPr/>
        </p:nvSpPr>
        <p:spPr>
          <a:xfrm>
            <a:off x="557280" y="4803840"/>
            <a:ext cx="837072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Рисунок 15" descr=""/>
          <p:cNvPicPr/>
          <p:nvPr/>
        </p:nvPicPr>
        <p:blipFill>
          <a:blip r:embed="rId1"/>
          <a:stretch/>
        </p:blipFill>
        <p:spPr>
          <a:xfrm>
            <a:off x="-6480" y="0"/>
            <a:ext cx="7621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Овал 4"/>
          <p:cNvSpPr/>
          <p:nvPr/>
        </p:nvSpPr>
        <p:spPr>
          <a:xfrm>
            <a:off x="4295880" y="1112760"/>
            <a:ext cx="3228840" cy="32418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аныш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ькеев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йбиц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рманов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тазин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хнеуслон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ин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ленодоль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жнекам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Выноска со стрелкой вправо 5"/>
          <p:cNvSpPr/>
          <p:nvPr/>
        </p:nvSpPr>
        <p:spPr>
          <a:xfrm>
            <a:off x="1187280" y="1428840"/>
            <a:ext cx="3456000" cy="1358640"/>
          </a:xfrm>
          <a:prstGeom prst="rightArrowCallout">
            <a:avLst>
              <a:gd name="adj1" fmla="val 25002"/>
              <a:gd name="adj2" fmla="val 25000"/>
              <a:gd name="adj3" fmla="val 25001"/>
              <a:gd name="adj4" fmla="val 64977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рманов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йбиц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Выноска со стрелкой вправо 8"/>
          <p:cNvSpPr/>
          <p:nvPr/>
        </p:nvSpPr>
        <p:spPr>
          <a:xfrm>
            <a:off x="1171440" y="2895480"/>
            <a:ext cx="3456000" cy="1359000"/>
          </a:xfrm>
          <a:prstGeom prst="rightArrowCallout">
            <a:avLst>
              <a:gd name="adj1" fmla="val 25002"/>
              <a:gd name="adj2" fmla="val 25000"/>
              <a:gd name="adj3" fmla="val 24995"/>
              <a:gd name="adj4" fmla="val 64977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ленодоль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жнекам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9"/>
          <p:cNvSpPr/>
          <p:nvPr/>
        </p:nvSpPr>
        <p:spPr>
          <a:xfrm>
            <a:off x="3071520" y="411120"/>
            <a:ext cx="28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ЛТАЯ З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Рисунок 6" descr=""/>
          <p:cNvPicPr/>
          <p:nvPr/>
        </p:nvPicPr>
        <p:blipFill>
          <a:blip r:embed="rId1"/>
          <a:stretch/>
        </p:blipFill>
        <p:spPr>
          <a:xfrm>
            <a:off x="-6480" y="0"/>
            <a:ext cx="1116000" cy="514368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с двумя вырезанными противолежащими углами 7"/>
          <p:cNvSpPr/>
          <p:nvPr/>
        </p:nvSpPr>
        <p:spPr>
          <a:xfrm>
            <a:off x="557280" y="4803840"/>
            <a:ext cx="837072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4"/>
          <p:cNvSpPr/>
          <p:nvPr/>
        </p:nvSpPr>
        <p:spPr>
          <a:xfrm>
            <a:off x="1109520" y="63360"/>
            <a:ext cx="778356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иссия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униципальных ППМС служб и цент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спублики Татарст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ение социал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ения и укрепление психологического здоров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актики поведенческих факторов риска в образовательном пространстве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с двумя вырезанными противолежащими углами 5"/>
          <p:cNvSpPr/>
          <p:nvPr/>
        </p:nvSpPr>
        <p:spPr>
          <a:xfrm>
            <a:off x="557280" y="4803840"/>
            <a:ext cx="837072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Рисунок 6" descr=""/>
          <p:cNvPicPr/>
          <p:nvPr/>
        </p:nvPicPr>
        <p:blipFill>
          <a:blip r:embed="rId1"/>
          <a:stretch/>
        </p:blipFill>
        <p:spPr>
          <a:xfrm>
            <a:off x="-6480" y="0"/>
            <a:ext cx="1116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3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75680" cy="517680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51436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C:\Users\Afanaseva\Desktop\сам.png"/>
          <p:cNvPicPr/>
          <p:nvPr/>
        </p:nvPicPr>
        <p:blipFill>
          <a:blip r:embed="rId3"/>
          <a:stretch/>
        </p:blipFill>
        <p:spPr>
          <a:xfrm>
            <a:off x="971640" y="104760"/>
            <a:ext cx="658800" cy="64440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с двумя вырезанными противолежащими углами 1"/>
          <p:cNvSpPr/>
          <p:nvPr/>
        </p:nvSpPr>
        <p:spPr>
          <a:xfrm>
            <a:off x="701640" y="4803840"/>
            <a:ext cx="837108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Заголовок 1" descr=""/>
          <p:cNvPicPr/>
          <p:nvPr/>
        </p:nvPicPr>
        <p:blipFill>
          <a:blip r:embed="rId4"/>
          <a:stretch/>
        </p:blipFill>
        <p:spPr>
          <a:xfrm>
            <a:off x="1298520" y="-55440"/>
            <a:ext cx="7772400" cy="1042920"/>
          </a:xfrm>
          <a:prstGeom prst="rect">
            <a:avLst/>
          </a:prstGeom>
          <a:ln w="0">
            <a:noFill/>
          </a:ln>
        </p:spPr>
      </p:pic>
      <p:sp>
        <p:nvSpPr>
          <p:cNvPr id="269" name="Объект 2"/>
          <p:cNvSpPr/>
          <p:nvPr/>
        </p:nvSpPr>
        <p:spPr>
          <a:xfrm>
            <a:off x="971640" y="843120"/>
            <a:ext cx="7921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3" descr="C:\Users\Admin\Desktop\Безымянный2.png"/>
          <p:cNvPicPr/>
          <p:nvPr/>
        </p:nvPicPr>
        <p:blipFill>
          <a:blip r:embed="rId5"/>
          <a:stretch/>
        </p:blipFill>
        <p:spPr>
          <a:xfrm>
            <a:off x="5041800" y="903240"/>
            <a:ext cx="3851280" cy="3828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C:\Users\Admin\Desktop\Безымянный.png"/>
          <p:cNvPicPr/>
          <p:nvPr/>
        </p:nvPicPr>
        <p:blipFill>
          <a:blip r:embed="rId6"/>
          <a:stretch/>
        </p:blipFill>
        <p:spPr>
          <a:xfrm>
            <a:off x="1101600" y="843120"/>
            <a:ext cx="3784680" cy="4000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Блок-схема: документ 3"/>
          <p:cNvSpPr/>
          <p:nvPr/>
        </p:nvSpPr>
        <p:spPr>
          <a:xfrm>
            <a:off x="2050920" y="1179360"/>
            <a:ext cx="2089440" cy="809640"/>
          </a:xfrm>
          <a:prstGeom prst="flowChartDocumen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субаев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Блок-схема: документ 4"/>
          <p:cNvSpPr/>
          <p:nvPr/>
        </p:nvSpPr>
        <p:spPr>
          <a:xfrm>
            <a:off x="2050920" y="1989000"/>
            <a:ext cx="2089440" cy="809640"/>
          </a:xfrm>
          <a:prstGeom prst="flowChartDocumen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ьметьев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Блок-схема: документ 5"/>
          <p:cNvSpPr/>
          <p:nvPr/>
        </p:nvSpPr>
        <p:spPr>
          <a:xfrm>
            <a:off x="2050920" y="2843280"/>
            <a:ext cx="2089440" cy="811080"/>
          </a:xfrm>
          <a:prstGeom prst="flowChartDocumen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ексеев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Блок-схема: документ 6"/>
          <p:cNvSpPr/>
          <p:nvPr/>
        </p:nvSpPr>
        <p:spPr>
          <a:xfrm>
            <a:off x="2050920" y="3697200"/>
            <a:ext cx="2089440" cy="811440"/>
          </a:xfrm>
          <a:prstGeom prst="flowChartDocumen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р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Блок-схема: документ 7"/>
          <p:cNvSpPr/>
          <p:nvPr/>
        </p:nvSpPr>
        <p:spPr>
          <a:xfrm>
            <a:off x="4319640" y="1160640"/>
            <a:ext cx="2089080" cy="809280"/>
          </a:xfrm>
          <a:prstGeom prst="flowChartDocumen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влин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Блок-схема: документ 8"/>
          <p:cNvSpPr/>
          <p:nvPr/>
        </p:nvSpPr>
        <p:spPr>
          <a:xfrm>
            <a:off x="4300560" y="1995480"/>
            <a:ext cx="2087640" cy="809640"/>
          </a:xfrm>
          <a:prstGeom prst="flowChartDocumen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кмор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Блок-схема: документ 9"/>
          <p:cNvSpPr/>
          <p:nvPr/>
        </p:nvSpPr>
        <p:spPr>
          <a:xfrm>
            <a:off x="4319640" y="2792520"/>
            <a:ext cx="2089080" cy="809640"/>
          </a:xfrm>
          <a:prstGeom prst="flowChartDocumen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мадыш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Блок-схема: документ 10"/>
          <p:cNvSpPr/>
          <p:nvPr/>
        </p:nvSpPr>
        <p:spPr>
          <a:xfrm>
            <a:off x="4300560" y="3619440"/>
            <a:ext cx="2087640" cy="809640"/>
          </a:xfrm>
          <a:prstGeom prst="flowChartDocumen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стричин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Блок-схема: документ 11"/>
          <p:cNvSpPr/>
          <p:nvPr/>
        </p:nvSpPr>
        <p:spPr>
          <a:xfrm>
            <a:off x="6595920" y="1171440"/>
            <a:ext cx="2087640" cy="811440"/>
          </a:xfrm>
          <a:prstGeom prst="flowChartDocumen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ыбно-Слобод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Блок-схема: документ 12"/>
          <p:cNvSpPr/>
          <p:nvPr/>
        </p:nvSpPr>
        <p:spPr>
          <a:xfrm>
            <a:off x="6591240" y="1982880"/>
            <a:ext cx="2087640" cy="809640"/>
          </a:xfrm>
          <a:prstGeom prst="flowChartDocumen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ас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Блок-схема: документ 13"/>
          <p:cNvSpPr/>
          <p:nvPr/>
        </p:nvSpPr>
        <p:spPr>
          <a:xfrm>
            <a:off x="6591240" y="2792520"/>
            <a:ext cx="2087640" cy="809640"/>
          </a:xfrm>
          <a:prstGeom prst="flowChartDocumen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истополь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Блок-схема: документ 14"/>
          <p:cNvSpPr/>
          <p:nvPr/>
        </p:nvSpPr>
        <p:spPr>
          <a:xfrm>
            <a:off x="6516720" y="3614760"/>
            <a:ext cx="2087640" cy="811080"/>
          </a:xfrm>
          <a:prstGeom prst="flowChartDocumen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емшан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TextBox 15" descr=""/>
          <p:cNvPicPr/>
          <p:nvPr/>
        </p:nvPicPr>
        <p:blipFill>
          <a:blip r:embed="rId1"/>
          <a:stretch/>
        </p:blipFill>
        <p:spPr>
          <a:xfrm>
            <a:off x="2693880" y="324000"/>
            <a:ext cx="4011840" cy="120636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с двумя вырезанными противолежащими углами 16"/>
          <p:cNvSpPr/>
          <p:nvPr/>
        </p:nvSpPr>
        <p:spPr>
          <a:xfrm>
            <a:off x="701640" y="4803840"/>
            <a:ext cx="837108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Рисунок 17" descr=""/>
          <p:cNvPicPr/>
          <p:nvPr/>
        </p:nvPicPr>
        <p:blipFill>
          <a:blip r:embed="rId2"/>
          <a:stretch/>
        </p:blipFill>
        <p:spPr>
          <a:xfrm>
            <a:off x="0" y="7920"/>
            <a:ext cx="1403280" cy="51436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Users\Afanaseva\Desktop\сам.png"/>
          <p:cNvPicPr/>
          <p:nvPr/>
        </p:nvPicPr>
        <p:blipFill>
          <a:blip r:embed="rId3"/>
          <a:stretch/>
        </p:blipFill>
        <p:spPr>
          <a:xfrm>
            <a:off x="960480" y="142920"/>
            <a:ext cx="65880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5143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Afanaseva\Desktop\сам.png"/>
          <p:cNvPicPr/>
          <p:nvPr/>
        </p:nvPicPr>
        <p:blipFill>
          <a:blip r:embed="rId2"/>
          <a:stretch/>
        </p:blipFill>
        <p:spPr>
          <a:xfrm>
            <a:off x="971640" y="104760"/>
            <a:ext cx="658800" cy="64440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с двумя вырезанными противолежащими углами 1"/>
          <p:cNvSpPr/>
          <p:nvPr/>
        </p:nvSpPr>
        <p:spPr>
          <a:xfrm>
            <a:off x="701640" y="4803840"/>
            <a:ext cx="837108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Заголовок 1" descr=""/>
          <p:cNvPicPr/>
          <p:nvPr/>
        </p:nvPicPr>
        <p:blipFill>
          <a:blip r:embed="rId3"/>
          <a:stretch/>
        </p:blipFill>
        <p:spPr>
          <a:xfrm>
            <a:off x="1547640" y="146160"/>
            <a:ext cx="7272360" cy="1176120"/>
          </a:xfrm>
          <a:prstGeom prst="rect">
            <a:avLst/>
          </a:prstGeom>
          <a:ln w="0">
            <a:noFill/>
          </a:ln>
        </p:spPr>
      </p:pic>
      <p:sp>
        <p:nvSpPr>
          <p:cNvPr id="173" name="Объект 2"/>
          <p:cNvSpPr/>
          <p:nvPr/>
        </p:nvSpPr>
        <p:spPr>
          <a:xfrm>
            <a:off x="900000" y="1538280"/>
            <a:ext cx="799308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Диаграмма 11" descr=""/>
          <p:cNvPicPr/>
          <p:nvPr/>
        </p:nvPicPr>
        <p:blipFill>
          <a:blip r:embed="rId4"/>
          <a:stretch/>
        </p:blipFill>
        <p:spPr>
          <a:xfrm>
            <a:off x="992160" y="1035000"/>
            <a:ext cx="7591320" cy="346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Рисунок 3" descr=""/>
          <p:cNvPicPr/>
          <p:nvPr/>
        </p:nvPicPr>
        <p:blipFill>
          <a:blip r:embed="rId1"/>
          <a:stretch/>
        </p:blipFill>
        <p:spPr>
          <a:xfrm>
            <a:off x="-19080" y="-30240"/>
            <a:ext cx="9175680" cy="517536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51436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C:\Users\Afanaseva\Desktop\сам.png"/>
          <p:cNvPicPr/>
          <p:nvPr/>
        </p:nvPicPr>
        <p:blipFill>
          <a:blip r:embed="rId3"/>
          <a:stretch/>
        </p:blipFill>
        <p:spPr>
          <a:xfrm>
            <a:off x="971640" y="104760"/>
            <a:ext cx="658800" cy="64440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с двумя вырезанными противолежащими углами 1"/>
          <p:cNvSpPr/>
          <p:nvPr/>
        </p:nvSpPr>
        <p:spPr>
          <a:xfrm>
            <a:off x="701640" y="4803840"/>
            <a:ext cx="837108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Заголовок 1" descr=""/>
          <p:cNvPicPr/>
          <p:nvPr/>
        </p:nvPicPr>
        <p:blipFill>
          <a:blip r:embed="rId4"/>
          <a:stretch/>
        </p:blipFill>
        <p:spPr>
          <a:xfrm>
            <a:off x="1627200" y="73080"/>
            <a:ext cx="7443720" cy="1743120"/>
          </a:xfrm>
          <a:prstGeom prst="rect">
            <a:avLst/>
          </a:prstGeom>
          <a:ln w="0">
            <a:noFill/>
          </a:ln>
        </p:spPr>
      </p:pic>
      <p:sp>
        <p:nvSpPr>
          <p:cNvPr id="293" name="Объект 2"/>
          <p:cNvSpPr/>
          <p:nvPr/>
        </p:nvSpPr>
        <p:spPr>
          <a:xfrm>
            <a:off x="1425600" y="787320"/>
            <a:ext cx="758196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Объект 2"/>
          <p:cNvSpPr/>
          <p:nvPr/>
        </p:nvSpPr>
        <p:spPr>
          <a:xfrm>
            <a:off x="1425600" y="1779480"/>
            <a:ext cx="7343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базе центров в 5 муниципальных образованиях Р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Набережные Чел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Нижнекам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Елабу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Каза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Альметьев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Рисунок 3" descr=""/>
          <p:cNvPicPr/>
          <p:nvPr/>
        </p:nvPicPr>
        <p:blipFill>
          <a:blip r:embed="rId1"/>
          <a:stretch/>
        </p:blipFill>
        <p:spPr>
          <a:xfrm>
            <a:off x="-23760" y="-49320"/>
            <a:ext cx="9174240" cy="517536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5143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C:\Users\Afanaseva\Desktop\сам.png"/>
          <p:cNvPicPr/>
          <p:nvPr/>
        </p:nvPicPr>
        <p:blipFill>
          <a:blip r:embed="rId3"/>
          <a:stretch/>
        </p:blipFill>
        <p:spPr>
          <a:xfrm>
            <a:off x="971640" y="104760"/>
            <a:ext cx="658800" cy="644400"/>
          </a:xfrm>
          <a:prstGeom prst="rect">
            <a:avLst/>
          </a:prstGeom>
          <a:ln w="0">
            <a:noFill/>
          </a:ln>
        </p:spPr>
      </p:pic>
      <p:sp>
        <p:nvSpPr>
          <p:cNvPr id="298" name="Прямоугольник с двумя вырезанными противолежащими углами 1"/>
          <p:cNvSpPr/>
          <p:nvPr/>
        </p:nvSpPr>
        <p:spPr>
          <a:xfrm>
            <a:off x="927000" y="4803840"/>
            <a:ext cx="8371080" cy="28728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Заголовок 1" descr=""/>
          <p:cNvPicPr/>
          <p:nvPr/>
        </p:nvPicPr>
        <p:blipFill>
          <a:blip r:embed="rId4"/>
          <a:stretch/>
        </p:blipFill>
        <p:spPr>
          <a:xfrm>
            <a:off x="878040" y="103320"/>
            <a:ext cx="8180280" cy="1274760"/>
          </a:xfrm>
          <a:prstGeom prst="rect">
            <a:avLst/>
          </a:prstGeom>
          <a:ln w="0">
            <a:noFill/>
          </a:ln>
        </p:spPr>
      </p:pic>
      <p:sp>
        <p:nvSpPr>
          <p:cNvPr id="300" name="Объект 2"/>
          <p:cNvSpPr/>
          <p:nvPr/>
        </p:nvSpPr>
        <p:spPr>
          <a:xfrm>
            <a:off x="1301760" y="1347840"/>
            <a:ext cx="76834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2016 году на единый общероссийский номер поступило 3026 звон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900" spc="-1" strike="noStrike">
                <a:solidFill>
                  <a:srgbClr val="ff0000"/>
                </a:solidFill>
                <a:latin typeface="Calibri"/>
                <a:ea typeface="Times New Roman"/>
              </a:rPr>
              <a:t>4 звонка по проблеме суицид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 детей и подростков поступило  - 69,2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 родителей и лиц их замещающих  -1,4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 иных граждан – 9,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Рисунок 3" descr=""/>
          <p:cNvPicPr/>
          <p:nvPr/>
        </p:nvPicPr>
        <p:blipFill>
          <a:blip r:embed="rId1"/>
          <a:stretch/>
        </p:blipFill>
        <p:spPr>
          <a:xfrm>
            <a:off x="-19080" y="-12600"/>
            <a:ext cx="9175680" cy="517500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4" descr=""/>
          <p:cNvPicPr/>
          <p:nvPr/>
        </p:nvPicPr>
        <p:blipFill>
          <a:blip r:embed="rId2"/>
          <a:stretch/>
        </p:blipFill>
        <p:spPr>
          <a:xfrm>
            <a:off x="0" y="7920"/>
            <a:ext cx="1403280" cy="51436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C:\Users\Afanaseva\Desktop\сам.png"/>
          <p:cNvPicPr/>
          <p:nvPr/>
        </p:nvPicPr>
        <p:blipFill>
          <a:blip r:embed="rId3"/>
          <a:stretch/>
        </p:blipFill>
        <p:spPr>
          <a:xfrm>
            <a:off x="960480" y="142920"/>
            <a:ext cx="658800" cy="64440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с двумя вырезанными противолежащими углами 1"/>
          <p:cNvSpPr/>
          <p:nvPr/>
        </p:nvSpPr>
        <p:spPr>
          <a:xfrm>
            <a:off x="701640" y="4803840"/>
            <a:ext cx="837108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Заголовок 1" descr=""/>
          <p:cNvPicPr/>
          <p:nvPr/>
        </p:nvPicPr>
        <p:blipFill>
          <a:blip r:embed="rId4"/>
          <a:stretch/>
        </p:blipFill>
        <p:spPr>
          <a:xfrm>
            <a:off x="1401840" y="171360"/>
            <a:ext cx="6340320" cy="1054080"/>
          </a:xfrm>
          <a:prstGeom prst="rect">
            <a:avLst/>
          </a:prstGeom>
          <a:ln w="0">
            <a:noFill/>
          </a:ln>
        </p:spPr>
      </p:pic>
      <p:sp>
        <p:nvSpPr>
          <p:cNvPr id="306" name="Объект 2"/>
          <p:cNvSpPr/>
          <p:nvPr/>
        </p:nvSpPr>
        <p:spPr>
          <a:xfrm>
            <a:off x="1042920" y="1141560"/>
            <a:ext cx="634860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му учит родителей программа «Путь к успеху»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слить критически по отношению к рискам наркотизации ребенк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нимать индивидуальные особенности ребе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ализировать поступки и поведение ребе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нозировать поведение ребенка в зависимости от влияния среды и личностных ресурсов ребе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рректировать свое поведение  в зависимости от сложившихся взаимоотношений и ситуаций в семь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9" descr="C:\Documents and Settings\Barby\Рабочий стол\ПУТЬ К УСПЕХУ\100_1433.JPG"/>
          <p:cNvPicPr/>
          <p:nvPr/>
        </p:nvPicPr>
        <p:blipFill>
          <a:blip r:embed="rId5"/>
          <a:stretch/>
        </p:blipFill>
        <p:spPr>
          <a:xfrm>
            <a:off x="7593120" y="7920"/>
            <a:ext cx="1542960" cy="205884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8" descr="C:\Documents and Settings\Barby\Рабочий стол\ПУТЬ К УСПЕХУ\100_1432.JPG"/>
          <p:cNvPicPr/>
          <p:nvPr/>
        </p:nvPicPr>
        <p:blipFill>
          <a:blip r:embed="rId6"/>
          <a:stretch/>
        </p:blipFill>
        <p:spPr>
          <a:xfrm>
            <a:off x="7562880" y="1347840"/>
            <a:ext cx="1573200" cy="2232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100_1431"/>
          <p:cNvPicPr/>
          <p:nvPr/>
        </p:nvPicPr>
        <p:blipFill>
          <a:blip r:embed="rId7"/>
          <a:stretch/>
        </p:blipFill>
        <p:spPr>
          <a:xfrm>
            <a:off x="7574040" y="2774880"/>
            <a:ext cx="1552320" cy="2003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extBox 15" descr=""/>
          <p:cNvPicPr/>
          <p:nvPr/>
        </p:nvPicPr>
        <p:blipFill>
          <a:blip r:embed="rId1"/>
          <a:stretch/>
        </p:blipFill>
        <p:spPr>
          <a:xfrm>
            <a:off x="1504800" y="96840"/>
            <a:ext cx="7261200" cy="66528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с двумя вырезанными противолежащими углами 16"/>
          <p:cNvSpPr/>
          <p:nvPr/>
        </p:nvSpPr>
        <p:spPr>
          <a:xfrm>
            <a:off x="701640" y="4803840"/>
            <a:ext cx="837108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Рисунок 17" descr=""/>
          <p:cNvPicPr/>
          <p:nvPr/>
        </p:nvPicPr>
        <p:blipFill>
          <a:blip r:embed="rId2"/>
          <a:stretch/>
        </p:blipFill>
        <p:spPr>
          <a:xfrm>
            <a:off x="0" y="7920"/>
            <a:ext cx="1403280" cy="51436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C:\Users\Afanaseva\Desktop\сам.png"/>
          <p:cNvPicPr/>
          <p:nvPr/>
        </p:nvPicPr>
        <p:blipFill>
          <a:blip r:embed="rId3"/>
          <a:stretch/>
        </p:blipFill>
        <p:spPr>
          <a:xfrm>
            <a:off x="960480" y="142920"/>
            <a:ext cx="658800" cy="64440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1"/>
          <p:cNvSpPr/>
          <p:nvPr/>
        </p:nvSpPr>
        <p:spPr>
          <a:xfrm>
            <a:off x="2211480" y="557280"/>
            <a:ext cx="60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8246f"/>
                </a:solidFill>
                <a:latin typeface="Arial"/>
                <a:ea typeface="Tahoma"/>
              </a:rPr>
              <a:t>Обучающий контент для род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3" descr="C:\Users\Valeev\Documents\гузель\2016 год\Психологи\суициды\суициды в интернет пространстве\скрин.png"/>
          <p:cNvPicPr/>
          <p:nvPr/>
        </p:nvPicPr>
        <p:blipFill>
          <a:blip r:embed="rId4"/>
          <a:stretch/>
        </p:blipFill>
        <p:spPr>
          <a:xfrm>
            <a:off x="5003640" y="1058760"/>
            <a:ext cx="4011840" cy="18162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C:\Users\Valeev\Documents\гузель\2016 год\Психологи\суициды\суициды в интернет пространстве\bezopasnyiyinternet.jpg"/>
          <p:cNvPicPr/>
          <p:nvPr/>
        </p:nvPicPr>
        <p:blipFill>
          <a:blip r:embed="rId5"/>
          <a:stretch/>
        </p:blipFill>
        <p:spPr>
          <a:xfrm>
            <a:off x="5135400" y="2943360"/>
            <a:ext cx="3899160" cy="184608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2"/>
          <p:cNvSpPr/>
          <p:nvPr/>
        </p:nvSpPr>
        <p:spPr>
          <a:xfrm>
            <a:off x="920880" y="984240"/>
            <a:ext cx="3965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ahoma"/>
              </a:rPr>
              <a:t>Размещен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a8246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246f"/>
                </a:solidFill>
                <a:latin typeface="Arial"/>
                <a:ea typeface="Tahoma"/>
              </a:rPr>
              <a:t>Сайт МОиН Р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Деятельность министерства/ Воспитание, дополнительное образование /Профилактика игровой и Интернет-зависимости у детей и подрост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2. </a:t>
            </a:r>
            <a:r>
              <a:rPr b="1" lang="ru-RU" sz="1800" spc="-1" strike="noStrike">
                <a:solidFill>
                  <a:srgbClr val="a8246f"/>
                </a:solidFill>
                <a:latin typeface="Arial"/>
                <a:ea typeface="Tahoma"/>
              </a:rPr>
              <a:t>Баннер в государственной информационной системе «Электронное образование Республики Татарстан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в Личных кабинетах педагогов всех уровн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3" descr=""/>
          <p:cNvPicPr/>
          <p:nvPr/>
        </p:nvPicPr>
        <p:blipFill>
          <a:blip r:embed="rId1"/>
          <a:stretch/>
        </p:blipFill>
        <p:spPr>
          <a:xfrm>
            <a:off x="19080" y="23760"/>
            <a:ext cx="9174240" cy="51768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5143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Users\Afanaseva\Desktop\сам.png"/>
          <p:cNvPicPr/>
          <p:nvPr/>
        </p:nvPicPr>
        <p:blipFill>
          <a:blip r:embed="rId3"/>
          <a:stretch/>
        </p:blipFill>
        <p:spPr>
          <a:xfrm>
            <a:off x="971640" y="104760"/>
            <a:ext cx="658800" cy="64440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с двумя вырезанными противолежащими углами 1"/>
          <p:cNvSpPr/>
          <p:nvPr/>
        </p:nvSpPr>
        <p:spPr>
          <a:xfrm>
            <a:off x="701640" y="4803840"/>
            <a:ext cx="837108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Заголовок 1" descr=""/>
          <p:cNvPicPr/>
          <p:nvPr/>
        </p:nvPicPr>
        <p:blipFill>
          <a:blip r:embed="rId4"/>
          <a:stretch/>
        </p:blipFill>
        <p:spPr>
          <a:xfrm>
            <a:off x="1432080" y="96840"/>
            <a:ext cx="7638840" cy="762120"/>
          </a:xfrm>
          <a:prstGeom prst="rect">
            <a:avLst/>
          </a:prstGeom>
          <a:ln w="0">
            <a:noFill/>
          </a:ln>
        </p:spPr>
      </p:pic>
      <p:sp>
        <p:nvSpPr>
          <p:cNvPr id="180" name="Объект 2"/>
          <p:cNvSpPr/>
          <p:nvPr/>
        </p:nvSpPr>
        <p:spPr>
          <a:xfrm>
            <a:off x="900000" y="1203480"/>
            <a:ext cx="799308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124000" y="1058760"/>
          <a:ext cx="6120000" cy="3407040"/>
        </p:xfrm>
        <a:graphic>
          <a:graphicData uri="http://schemas.openxmlformats.org/drawingml/2006/table">
            <a:tbl>
              <a:tblPr/>
              <a:tblGrid>
                <a:gridCol w="2762280"/>
                <a:gridCol w="3357720"/>
              </a:tblGrid>
              <a:tr h="509760"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ы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роятный моти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ктаныш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фликт в семь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льметьев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известны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льметьев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фликт в семь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алтасин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известны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укмор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известны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Лаишев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известны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укаев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известны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Ютазин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фликт со сверстнико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аза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счастная любовь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сихологическая травма (потеря родителей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205920"/>
            <a:ext cx="75708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f497d"/>
                </a:solidFill>
                <a:latin typeface="Arial"/>
                <a:ea typeface="Tahoma"/>
              </a:rPr>
              <a:t>МОТИВЫ СУИЦИДАЛЬНОГО ПОВЕДЕНИЯ </a:t>
            </a:r>
            <a:br>
              <a:rPr sz="2500"/>
            </a:br>
            <a:r>
              <a:rPr b="1" lang="ru-RU" sz="2500" spc="-1" strike="noStrike">
                <a:solidFill>
                  <a:srgbClr val="1f497d"/>
                </a:solidFill>
                <a:latin typeface="Arial"/>
                <a:ea typeface="Tahoma"/>
              </a:rPr>
              <a:t>ДЕТЕЙ И ПОДРОСТК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71200" y="1203120"/>
            <a:ext cx="8056440" cy="31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Переживание обиды, одиночества, отчужденности и непонимани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02120" indent="-3672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Действительная или мнимая утрата любви родителе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02120" indent="-3672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Смерть, развод или уход родителей из семь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02120" indent="-3672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Чувства вины, стыда, оскорбленного самолюбия, самообвинени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02120" indent="-3672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Боязнь позора, насмешек  или унижения, страх наказания, нежелание извинитьс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02120" indent="-3672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Любовные неудачи,  ревность, сексуальные эксцессы, беременность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02120" indent="-3672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Чувство мести, злобы, протеста; угроза или вымогательство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02120" indent="-3672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Желание привлечь к себе внимание, вызвать сочувстви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02120" indent="-3672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Сочувствие или подражание товарищам, героям книг или фильм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02120" indent="-36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116000" cy="514368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с двумя вырезанными противолежащими углами 4"/>
          <p:cNvSpPr/>
          <p:nvPr/>
        </p:nvSpPr>
        <p:spPr>
          <a:xfrm>
            <a:off x="557280" y="4803840"/>
            <a:ext cx="837072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2560" y="206280"/>
            <a:ext cx="7885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f497d"/>
                </a:solidFill>
                <a:latin typeface="Arial"/>
                <a:ea typeface="Tahoma"/>
              </a:rPr>
              <a:t>Основные риски и угрозы Интернет -  простран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4360" y="1200240"/>
            <a:ext cx="52560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Незаконные контакт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(киберпреследования, кибертравл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Контентные рис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(Вредоносная информация, нецензурная лекси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Потребительские рис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(онлайн-банкинг, мобильное мошенничеств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Технические рис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(Взлом аккаунта, хищения паролей и персональной информаци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Интернет-зависимос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(Гейминг, чат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1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13" descr="spielsucht_hand_wdrmau_g"/>
          <p:cNvPicPr/>
          <p:nvPr/>
        </p:nvPicPr>
        <p:blipFill>
          <a:blip r:embed="rId1"/>
          <a:stretch/>
        </p:blipFill>
        <p:spPr>
          <a:xfrm>
            <a:off x="5997600" y="1419120"/>
            <a:ext cx="2962080" cy="275292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116000" cy="514368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с двумя вырезанными противолежащими углами 5"/>
          <p:cNvSpPr/>
          <p:nvPr/>
        </p:nvSpPr>
        <p:spPr>
          <a:xfrm>
            <a:off x="557280" y="4803840"/>
            <a:ext cx="837072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114120"/>
            <a:ext cx="806616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Arial"/>
                <a:ea typeface="Tahoma"/>
              </a:rPr>
              <a:t>Популярные социальные сети </a:t>
            </a:r>
            <a:br>
              <a:rPr sz="3500"/>
            </a:br>
            <a:r>
              <a:rPr b="1" lang="ru-RU" sz="3500" spc="-1" strike="noStrike">
                <a:solidFill>
                  <a:srgbClr val="1f497d"/>
                </a:solidFill>
                <a:latin typeface="Arial"/>
                <a:ea typeface="Tahoma"/>
              </a:rPr>
              <a:t>в Росси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8" descr="1298714952_big_643579"/>
          <p:cNvPicPr/>
          <p:nvPr/>
        </p:nvPicPr>
        <p:blipFill>
          <a:blip r:embed="rId1"/>
          <a:stretch/>
        </p:blipFill>
        <p:spPr>
          <a:xfrm>
            <a:off x="755640" y="1905120"/>
            <a:ext cx="1587600" cy="1441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ииит"/>
          <p:cNvPicPr/>
          <p:nvPr/>
        </p:nvPicPr>
        <p:blipFill>
          <a:blip r:embed="rId2"/>
          <a:stretch/>
        </p:blipFill>
        <p:spPr>
          <a:xfrm>
            <a:off x="5811840" y="944640"/>
            <a:ext cx="3132000" cy="2415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C:\Users\юрий\Desktop\fn7eeVmKut0.jpg"/>
          <p:cNvPicPr/>
          <p:nvPr/>
        </p:nvPicPr>
        <p:blipFill>
          <a:blip r:embed="rId3"/>
          <a:stretch/>
        </p:blipFill>
        <p:spPr>
          <a:xfrm>
            <a:off x="2627280" y="2048040"/>
            <a:ext cx="3097080" cy="2387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4"/>
          <a:stretch/>
        </p:blipFill>
        <p:spPr>
          <a:xfrm>
            <a:off x="0" y="1440"/>
            <a:ext cx="1114560" cy="514224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с двумя вырезанными противолежащими углами 9"/>
          <p:cNvSpPr/>
          <p:nvPr/>
        </p:nvSpPr>
        <p:spPr>
          <a:xfrm>
            <a:off x="557280" y="4803840"/>
            <a:ext cx="837072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6920" y="114120"/>
            <a:ext cx="77058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Tahoma"/>
              </a:rPr>
              <a:t>Деструктивные группы суицидальной направл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036800" y="1204920"/>
          <a:ext cx="3962160" cy="3789360"/>
        </p:xfrm>
        <a:graphic>
          <a:graphicData uri="http://schemas.openxmlformats.org/drawingml/2006/table">
            <a:tbl>
              <a:tblPr/>
              <a:tblGrid>
                <a:gridCol w="39621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МОРЕ КИ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РАЗБУДИ МЕНЯ В 4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ХОЧУ В ИГРУ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НЯ. ПОКА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Поколение приунывших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99" name="Picture 2" descr="https://im0-tub-ru.yandex.net/i?id=da881010d7eafd47fbce9da56b651834&amp;n=33&amp;h=215&amp;w=382"/>
          <p:cNvPicPr/>
          <p:nvPr/>
        </p:nvPicPr>
        <p:blipFill>
          <a:blip r:embed="rId1"/>
          <a:stretch/>
        </p:blipFill>
        <p:spPr>
          <a:xfrm>
            <a:off x="5218200" y="1420920"/>
            <a:ext cx="3895560" cy="3022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2"/>
          <a:stretch/>
        </p:blipFill>
        <p:spPr>
          <a:xfrm>
            <a:off x="0" y="22320"/>
            <a:ext cx="11145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6000" y="114480"/>
            <a:ext cx="7920000" cy="80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Tahoma"/>
              </a:rPr>
              <a:t>Подросток в соцсетях: что должно насторожить р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19280" y="987480"/>
            <a:ext cx="8208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Профиль страницы закры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Закрывание лица руками либо одеждой на фото,  демонстрирование указательного пальца на таких снимка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Опасными считаются такие символы, как медузы, кошки, бабочки, единороги, съемки с высоты, крыш и чердаков, изображение того, как киты плывут ввер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Группа подозрительных «друзей», появившихся за короткое врем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Чрезмерное увлечение копированием на своей страничке строчек из некоторых стихотворений, например, С. Есенина и И.Бродского, посвященных смерти, а также цитат из мистических кни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116000" cy="514368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с двумя вырезанными противолежащими углами 4"/>
          <p:cNvSpPr/>
          <p:nvPr/>
        </p:nvSpPr>
        <p:spPr>
          <a:xfrm>
            <a:off x="557280" y="4803840"/>
            <a:ext cx="837072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87280" y="205920"/>
            <a:ext cx="777744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Tahoma"/>
              </a:rPr>
              <a:t>Подросток в соцсетях: что должно насторожить р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06560" y="1058400"/>
            <a:ext cx="79214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Сохранение на страничках социальных сетей депрессивной музык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Необъяснимое желание похудеть, сильная критика в адрес полных люде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Увлечение кофе, ранний утренний подъем (если такого раньше не было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Необычный сленг в переписк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Внезапное изменение внешности: выбривание висков, окрашивание волос в неестественные тон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Рисунки странного характера (перевернутые кресты, сатанинские звезды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Увлеченность мистическими фильмами и сценами жестокости и насили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Отказ от общения с родителями. Выбор черной мрачной одежды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514368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с двумя вырезанными противолежащими углами 5"/>
          <p:cNvSpPr/>
          <p:nvPr/>
        </p:nvSpPr>
        <p:spPr>
          <a:xfrm>
            <a:off x="557280" y="4803840"/>
            <a:ext cx="837072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0:29:57Z</dcterms:created>
  <dc:creator>Николай</dc:creator>
  <dc:description/>
  <dc:language>en-US</dc:language>
  <cp:lastModifiedBy>Начальник ОУУП и ПДН</cp:lastModifiedBy>
  <cp:lastPrinted>2017-03-14T02:44:21Z</cp:lastPrinted>
  <dcterms:modified xsi:type="dcterms:W3CDTF">2017-03-29T07:47:23Z</dcterms:modified>
  <cp:revision>489</cp:revision>
  <dc:subject/>
  <dc:title>Слайд 1</dc:title>
</cp:coreProperties>
</file>